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.gif" ContentType="image/gif"/>
  <Override PartName="/ppt/media/image9.wmf" ContentType="image/x-wmf"/>
  <Override PartName="/ppt/media/image13.jpeg" ContentType="image/jpeg"/>
  <Override PartName="/ppt/media/image8.jpeg" ContentType="image/jpeg"/>
  <Override PartName="/ppt/media/image11.wmf" ContentType="image/x-wmf"/>
  <Override PartName="/ppt/media/image17.jpeg" ContentType="image/jpeg"/>
  <Override PartName="/ppt/media/image7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810-0462-4E14-8CE2-F4063096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0E2-AB94-4EE4-BC49-11757179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486-6395-4993-94DA-7EF931CA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C6A-DA77-44B5-95BF-9BF86341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D43A-15B8-4E30-8B08-817D3F28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8330-7FDB-4BAB-90C3-69893980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75DD-523F-4967-A161-D23CB75F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9745-9A8A-4E85-906E-EA19E1A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A6DE-0B52-4EEE-8A51-EC6C862D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62FA-DBDD-482A-8287-02B7E525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9104-1522-43B4-9EDA-152A3914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B55-68ED-4ABD-B9E2-89D797E3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ADBC-BBB3-473A-89F7-86C8A3BA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74D3-BBC7-4967-8C6B-9DD3AC25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F124-9E3E-4141-853F-4486DCC4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6442-8AE1-45FC-BBB2-EA331E23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B5C2-4F53-4AD8-AD37-68275C19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B84-455B-474E-926A-71DF6FB1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961-BE94-4E7C-87BA-DA49E5FD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968-0E31-4129-A460-8AA65E2F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465-A1F4-4687-AE9C-B63EC24A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DC2-4895-4A2F-A748-A116C5CE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6BF-363C-451D-98D4-48F6794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3E5-0A9B-4077-845C-E67AF62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0B9C-92E1-4251-B72B-1D069B3E8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F1B6-E57E-4664-8AF4-1C6E77892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j0234759"/>
          <p:cNvPicPr/>
          <p:nvPr/>
        </p:nvPicPr>
        <p:blipFill>
          <a:blip r:embed="rId1"/>
          <a:stretch/>
        </p:blipFill>
        <p:spPr>
          <a:xfrm>
            <a:off x="3348000" y="2565360"/>
            <a:ext cx="2160720" cy="2778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37480" cy="15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5</a:t>
            </a:r>
            <a:r>
              <a:rPr b="1" lang="en-GB" sz="6600" spc="-1" strike="noStrike" baseline="30000">
                <a:solidFill>
                  <a:srgbClr val="ffffcc"/>
                </a:solidFill>
                <a:latin typeface="Comic Sans MS"/>
              </a:rPr>
              <a:t>th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Class Project</a:t>
            </a:r>
            <a:br>
              <a:rPr sz="6600"/>
            </a:b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with Peter Donegan &amp; Balbriggan Librar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Comic Sans MS"/>
              </a:rPr>
              <a:t>We join Peter at the Library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3" descr="DSC_0130.jpg"/>
          <p:cNvPicPr/>
          <p:nvPr/>
        </p:nvPicPr>
        <p:blipFill>
          <a:blip r:embed="rId1"/>
          <a:stretch/>
        </p:blipFill>
        <p:spPr>
          <a:xfrm>
            <a:off x="214200" y="1571760"/>
            <a:ext cx="2714760" cy="3943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SC_0131.jpg"/>
          <p:cNvPicPr/>
          <p:nvPr/>
        </p:nvPicPr>
        <p:blipFill>
          <a:blip r:embed="rId2"/>
          <a:stretch/>
        </p:blipFill>
        <p:spPr>
          <a:xfrm>
            <a:off x="3214800" y="1571760"/>
            <a:ext cx="2714400" cy="394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DSC_0137.jpg"/>
          <p:cNvPicPr/>
          <p:nvPr/>
        </p:nvPicPr>
        <p:blipFill>
          <a:blip r:embed="rId3"/>
          <a:stretch/>
        </p:blipFill>
        <p:spPr>
          <a:xfrm>
            <a:off x="6286680" y="1571760"/>
            <a:ext cx="2714400" cy="394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Comic Sans MS"/>
              </a:rPr>
              <a:t>Plant Structure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2" descr="NA00713_"/>
          <p:cNvPicPr/>
          <p:nvPr/>
        </p:nvPicPr>
        <p:blipFill>
          <a:blip r:embed="rId1"/>
          <a:stretch/>
        </p:blipFill>
        <p:spPr>
          <a:xfrm>
            <a:off x="1447920" y="1447920"/>
            <a:ext cx="6933960" cy="4572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>
            <a:off x="762120" y="38098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s</a:t>
            </a:r>
            <a:endParaRPr b="0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9" name="WordArt 6"/>
          <p:cNvSpPr txBox="1"/>
          <p:nvPr/>
        </p:nvSpPr>
        <p:spPr>
          <a:xfrm>
            <a:off x="6400800" y="34290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380880" y="144792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ves</a:t>
            </a:r>
            <a:endParaRPr b="0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6400800" y="121932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2514600" y="4572000"/>
            <a:ext cx="144792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4876920" y="3809880"/>
            <a:ext cx="137160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2438280" y="2362320"/>
            <a:ext cx="76212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028840" y="17524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Comic Sans MS"/>
              </a:rPr>
              <a:t>How do Flowers Reproduce?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2457360" cy="2109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500040" y="3862440"/>
            <a:ext cx="2500200" cy="2066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DSC_0225.jpg"/>
          <p:cNvPicPr/>
          <p:nvPr/>
        </p:nvPicPr>
        <p:blipFill>
          <a:blip r:embed="rId3"/>
          <a:stretch/>
        </p:blipFill>
        <p:spPr>
          <a:xfrm>
            <a:off x="3500280" y="2357280"/>
            <a:ext cx="5064120" cy="2847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10" descr="NA00002_"/>
          <p:cNvPicPr/>
          <p:nvPr/>
        </p:nvPicPr>
        <p:blipFill>
          <a:blip r:embed="rId1"/>
          <a:stretch/>
        </p:blipFill>
        <p:spPr>
          <a:xfrm>
            <a:off x="1332000" y="4365720"/>
            <a:ext cx="1803240" cy="175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O00085_"/>
          <p:cNvPicPr/>
          <p:nvPr/>
        </p:nvPicPr>
        <p:blipFill>
          <a:blip r:embed="rId2"/>
          <a:stretch/>
        </p:blipFill>
        <p:spPr>
          <a:xfrm>
            <a:off x="1403280" y="1844640"/>
            <a:ext cx="1766880" cy="1766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HH02192_"/>
          <p:cNvPicPr/>
          <p:nvPr/>
        </p:nvPicPr>
        <p:blipFill>
          <a:blip r:embed="rId3"/>
          <a:stretch/>
        </p:blipFill>
        <p:spPr>
          <a:xfrm>
            <a:off x="4932360" y="1844640"/>
            <a:ext cx="2022480" cy="208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HH00446_"/>
          <p:cNvPicPr/>
          <p:nvPr/>
        </p:nvPicPr>
        <p:blipFill>
          <a:blip r:embed="rId4"/>
          <a:stretch/>
        </p:blipFill>
        <p:spPr>
          <a:xfrm>
            <a:off x="5148360" y="4365720"/>
            <a:ext cx="1509480" cy="18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Comic Sans MS"/>
              </a:rPr>
              <a:t>Planting Seed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7" descr="DSC_0169.jpg"/>
          <p:cNvPicPr/>
          <p:nvPr/>
        </p:nvPicPr>
        <p:blipFill>
          <a:blip r:embed="rId1"/>
          <a:stretch/>
        </p:blipFill>
        <p:spPr>
          <a:xfrm>
            <a:off x="4572000" y="4071960"/>
            <a:ext cx="4297320" cy="2417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DSC_0172.jpg"/>
          <p:cNvPicPr/>
          <p:nvPr/>
        </p:nvPicPr>
        <p:blipFill>
          <a:blip r:embed="rId2"/>
          <a:stretch/>
        </p:blipFill>
        <p:spPr>
          <a:xfrm>
            <a:off x="4572000" y="1143000"/>
            <a:ext cx="4357800" cy="2451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DSC_0173.jpg"/>
          <p:cNvPicPr/>
          <p:nvPr/>
        </p:nvPicPr>
        <p:blipFill>
          <a:blip r:embed="rId3"/>
          <a:stretch/>
        </p:blipFill>
        <p:spPr>
          <a:xfrm>
            <a:off x="571680" y="1165320"/>
            <a:ext cx="3429000" cy="520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Comic Sans MS"/>
              </a:rPr>
              <a:t>How to Grow a Tree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11" descr="DSC_0235.jpg"/>
          <p:cNvPicPr/>
          <p:nvPr/>
        </p:nvPicPr>
        <p:blipFill>
          <a:blip r:embed="rId1"/>
          <a:stretch/>
        </p:blipFill>
        <p:spPr>
          <a:xfrm>
            <a:off x="642960" y="1285920"/>
            <a:ext cx="2714760" cy="4825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hardwood-cutting-trees-1024x602.jpg"/>
          <p:cNvPicPr/>
          <p:nvPr/>
        </p:nvPicPr>
        <p:blipFill>
          <a:blip r:embed="rId2"/>
          <a:stretch/>
        </p:blipFill>
        <p:spPr>
          <a:xfrm>
            <a:off x="3994200" y="2214720"/>
            <a:ext cx="4721040" cy="2776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Comic Sans MS"/>
              </a:rPr>
              <a:t>Planning our Garden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5" descr="DSC_0229 (1).jpg"/>
          <p:cNvPicPr/>
          <p:nvPr/>
        </p:nvPicPr>
        <p:blipFill>
          <a:blip r:embed="rId1"/>
          <a:stretch/>
        </p:blipFill>
        <p:spPr>
          <a:xfrm>
            <a:off x="2643120" y="2286000"/>
            <a:ext cx="3929040" cy="220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DSC_0229.jpg"/>
          <p:cNvPicPr/>
          <p:nvPr/>
        </p:nvPicPr>
        <p:blipFill>
          <a:blip r:embed="rId2"/>
          <a:stretch/>
        </p:blipFill>
        <p:spPr>
          <a:xfrm>
            <a:off x="6764400" y="1785960"/>
            <a:ext cx="2093760" cy="3720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DSC_0232.jpg"/>
          <p:cNvPicPr/>
          <p:nvPr/>
        </p:nvPicPr>
        <p:blipFill>
          <a:blip r:embed="rId3"/>
          <a:stretch/>
        </p:blipFill>
        <p:spPr>
          <a:xfrm>
            <a:off x="357120" y="1851120"/>
            <a:ext cx="2094120" cy="3720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Comic Sans MS"/>
              </a:rPr>
              <a:t>Thank You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909720" y="1500120"/>
            <a:ext cx="7305480" cy="1847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albriggan"/>
          <p:cNvPicPr/>
          <p:nvPr/>
        </p:nvPicPr>
        <p:blipFill>
          <a:blip r:embed="rId2"/>
          <a:stretch/>
        </p:blipFill>
        <p:spPr>
          <a:xfrm>
            <a:off x="2571840" y="3571920"/>
            <a:ext cx="3990960" cy="3000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Sammy</dc:creator>
  <dc:description/>
  <dc:language>en-US</dc:language>
  <cp:lastModifiedBy>Dan</cp:lastModifiedBy>
  <dcterms:modified xsi:type="dcterms:W3CDTF">2011-11-23T19:51:00Z</dcterms:modified>
  <cp:revision>13</cp:revision>
  <dc:subject/>
  <dc:title>PLANTS</dc:title>
</cp:coreProperties>
</file>